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99CCF-2F12-4196-BB1B-60748BDC7B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BD08B-AAF7-4B69-8D17-4B5C04492F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48BC5-CE32-40AC-B60A-7DA21F674F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91348-36B4-4EC2-91C3-BB3A5730CE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FF9A7-A152-41AC-B6FD-43714570D4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DF695F-D880-44A9-9DA6-F0D9D3878F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3F4511-434E-4F99-99A7-64330DC544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0E2AA3-9097-4A2A-BDF3-2542AC1D0E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E55DBB-DA02-453E-B94F-107EBA847E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A0D911-E899-4F85-ACF9-6A2AFF6C7A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570A02-14E8-4A53-AF4F-6E4E546309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B685E-B44C-4DA5-95D4-20B7BFB0AE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A14D20-422F-441F-91A4-C6FCCAF57B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CD4E89-9B73-4581-BFD4-5DC7B39708D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22DD3A-7751-47ED-8BAF-5727E9DBE8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571B0D-EB8C-44D5-8E0C-60E10E9A4A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9043EE-3484-495E-8DF2-CBBA6B7C4F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AC5C5-9A22-4701-86A4-BF23E9E50F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6CD44-BF16-42D6-97E2-DAD6568270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A89CB-1028-4A80-9D6E-353A92B0C6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DEDC3-C420-43E2-B377-75EE51BE68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78E5E-C820-4325-AE6B-1378BCB84F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A4401-DFFA-49C0-9A13-A674083B28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8F074-BD7B-493A-802F-B69DC43F83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B78FAE12-18D5-4C65-A22F-13A46E64BFE8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8ECC7F5-6B88-434B-A6B0-6CE7BBFDB184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0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20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9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EA002FD4-62D0-4EC7-935D-0450D718FA40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D421308F-2063-4D10-B111-E4A6AD540FCB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0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3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5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rho of Raykov(1997) – better than Cronbach’s alpha . (http://imaging.mrc-cbu.cam.ac.uk/statswiki/FAQ/Raykov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; SPSS and R code to test this are available at http://imaging.mrc-cbu.cam.ac.uk/statswiki/FAQ/mvnorm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add-on module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R. B. Kline (1998). Software programs for structural equation modeling: AMOS, EQS, and LISREL. </a:t>
            </a:r>
            <a:r>
              <a:rPr b="1" i="1" lang="en-US" sz="1600" spc="-1" strike="noStrike">
                <a:solidFill>
                  <a:srgbClr val="7030a0"/>
                </a:solidFill>
                <a:latin typeface="Verdana"/>
              </a:rPr>
              <a:t>Journal of Psychoeducational Assessment</a:t>
            </a: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 (16): 343-364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6" name="Object 4"/>
          <p:cNvGraphicFramePr/>
          <p:nvPr/>
        </p:nvGraphicFramePr>
        <p:xfrm>
          <a:off x="1433520" y="160020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3520" y="160020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4876560" y="2362320"/>
            <a:ext cx="23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6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9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0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3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4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0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1" name="AutoShape 65"/>
          <p:cNvCxnSpPr>
            <a:stCxn id="339" idx="0"/>
            <a:endCxn id="338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2" name="AutoShape 66"/>
          <p:cNvCxnSpPr>
            <a:stCxn id="338" idx="7"/>
            <a:endCxn id="340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3" name="AutoShape 67"/>
          <p:cNvCxnSpPr>
            <a:stCxn id="339" idx="7"/>
            <a:endCxn id="340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94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7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8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9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0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1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, Heene et al (2011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4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5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16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17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9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0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2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3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1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5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8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0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1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8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2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5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7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8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4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87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9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1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3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4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5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0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468360" y="6021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a04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Preacher &amp; Kelley(2011) suggest using ab/Max(ab) effect size</a:t>
            </a:r>
            <a:endParaRPr b="0" lang="en-US" sz="18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;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differences &gt;10 suggest better fit (Raftery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acher et al (2012) suggest 95% bootstrap CIs for B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54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6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EFCD-245E-4229-B0B0-CA78A647A76E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1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2" name="Picture 3" descr=""/>
          <p:cNvPicPr/>
          <p:nvPr/>
        </p:nvPicPr>
        <p:blipFill>
          <a:blip r:embed="rId1"/>
          <a:stretch/>
        </p:blipFill>
        <p:spPr>
          <a:xfrm>
            <a:off x="3286080" y="4956120"/>
            <a:ext cx="1859040" cy="785880"/>
          </a:xfrm>
          <a:prstGeom prst="rect">
            <a:avLst/>
          </a:prstGeom>
          <a:ln w="0">
            <a:noFill/>
          </a:ln>
        </p:spPr>
      </p:pic>
      <p:sp>
        <p:nvSpPr>
          <p:cNvPr id="573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4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8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9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1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2" name="Picture 3" descr=""/>
          <p:cNvPicPr/>
          <p:nvPr/>
        </p:nvPicPr>
        <p:blipFill>
          <a:blip r:embed="rId2"/>
          <a:stretch/>
        </p:blipFill>
        <p:spPr>
          <a:xfrm>
            <a:off x="2395440" y="2998800"/>
            <a:ext cx="785880" cy="1859040"/>
          </a:xfrm>
          <a:prstGeom prst="rect">
            <a:avLst/>
          </a:prstGeom>
          <a:ln w="0">
            <a:noFill/>
          </a:ln>
        </p:spPr>
      </p:pic>
      <p:sp>
        <p:nvSpPr>
          <p:cNvPr id="583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8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9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4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05" name="Straight Arrow Connector 96"/>
          <p:cNvCxnSpPr>
            <a:stCxn id="604" idx="1"/>
            <a:endCxn id="595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06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0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how many factors “best” account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 (see e.g. Khattree and Naik, 2000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0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2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5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6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6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39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1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12-07-19T10:44:37Z</dcterms:modified>
  <cp:revision>326</cp:revision>
  <dc:subject/>
  <dc:title>No Slide Title</dc:title>
</cp:coreProperties>
</file>